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0ED3-8426-4ED4-830E-F526A39C5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0B6B-4CEC-4BBD-9807-CD398672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D82F-1909-4C21-95F8-ACC067A94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9C67-6E04-4398-8F1B-76BCBC7A8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0374-B73C-418D-8ED4-DCD98BDEC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C5FD-486C-486C-B809-AD26374C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88E9-0610-4C62-8F78-3D43D28B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F173-82B7-4245-8B33-EAD1E223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A365-BC9E-4559-8FD6-FA1AEF1B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D0C2-54C0-4A04-99C7-4BCAB836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12D7-E3C8-4992-A582-6EAF5C13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2C28-9D99-4391-8C51-560DD0B6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CBCA-AD10-4FB5-9BDB-E04B553F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4EB4-84B0-4FCF-BD39-0D82276C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C5F1-FAF7-4AE3-B1D9-BD370483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F255-7C28-45F6-8A27-77C14FD2E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41D4-F045-4BE7-B268-DC27CA253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3D2F-B486-4648-A998-393CC29F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CAC3-2BE4-4B17-8D6D-D89B26E6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AD6F-21CC-45A8-BA63-1D9DA647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EB32-B509-488D-A5AD-1AAC10DC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561E-A907-44FF-9A7F-0254DAFD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1A82-2638-41C5-AA6D-C45A3D94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BB72-8398-42B1-8EAB-9C66F7DD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39BC-7F4E-4E65-8A89-A3E3FF6FEF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33D6-3A3C-48AA-8FE8-83417A5813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hapter 5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ie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aking Not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pe recorder can be good and b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are the pros and con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ke down n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down qu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mail Int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ways strive for the face to face int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ail does work, but you will not get at the emotion of the interview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Other Interviewing Component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f the record – (p. 107-10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urce must go off the record at the beginning of the inter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Interview S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y diffic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specific in deta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ine p. 108-10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re Compon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as many as po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stion – Answ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od techni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will cut some of the interview 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allows the reader to really get a feel for the interview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epublication Check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kay to go over the story with a sour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d for two reas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Rel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iminate Mistak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rd to prove malice if story read to sour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should our policy b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ior Re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ool administrators look over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rders on censorshi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ember Hazelwoo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172200" cy="643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0" spc="-1" strike="noStrike">
                <a:solidFill>
                  <a:srgbClr val="330066"/>
                </a:solidFill>
                <a:latin typeface="Arial"/>
              </a:rPr>
              <a:t>THE </a:t>
            </a:r>
            <a:br>
              <a:rPr sz="22000"/>
            </a:br>
            <a:r>
              <a:rPr b="1" lang="en-US" sz="22000" spc="-1" strike="noStrike">
                <a:solidFill>
                  <a:srgbClr val="330066"/>
                </a:solidFill>
                <a:latin typeface="Arial"/>
              </a:rPr>
              <a:t>END</a:t>
            </a:r>
            <a:endParaRPr b="1" lang="en-US" sz="22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eneral Guideli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 to primary sour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ways find the best source of information for your s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ways identify yourself as a repor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comfortable – the ‘poker face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eparing Ques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them ready before calling the individual for the interview – WH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some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library and students / facul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 straight forward when you spea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‘yes / no’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k open ended ques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‘-est’ questions – very limiting (p. 10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ock Ques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to use stock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rts sto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ick set-up inter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are some types of stock question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mbarrassing Ques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times these questions must be ask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n’t snoop or pry out of curios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n’t get host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stening to Respon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y attention to how question is answ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m – weary – scared – ang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sten for ‘no comment’ or ‘that’s a good question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n’t arg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ndering is not b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 the end ask the following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ere anything else you would like to add?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ducting the Int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e yourself – firm hand shak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ic data – name (check spelling &amp; preference), job title, years in pos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gin with small questions – then move deeper – WH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serv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sten to what is said and not sa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ch the actions and ges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ecdotes?  Pounding the desk?  Quie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eing Friendl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tablish credi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pport - you need strong ra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d eye contact – but not too mu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gum, look n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bal responses are import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ding your h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 an atmosphere of tru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17:30:34Z</dcterms:created>
  <dc:creator>jvanengen</dc:creator>
  <dc:description/>
  <dc:language>en-US</dc:language>
  <cp:lastModifiedBy>Administrator</cp:lastModifiedBy>
  <dcterms:modified xsi:type="dcterms:W3CDTF">2009-09-22T21:13:22Z</dcterms:modified>
  <cp:revision>6</cp:revision>
  <dc:subject/>
  <dc:title>Chapter 5</dc:title>
</cp:coreProperties>
</file>